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3040" y="812880"/>
            <a:ext cx="531324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102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32781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78240" y="0"/>
            <a:ext cx="32781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0156680"/>
            <a:ext cx="32781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4"/>
          </p:nvPr>
        </p:nvSpPr>
        <p:spPr>
          <a:xfrm>
            <a:off x="4277880" y="10155240"/>
            <a:ext cx="32432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5FD2B-C5D0-47D0-ADD2-EC0A38372E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0FAAA-3D75-4B00-93FD-763487D663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56201-4A7E-42C7-8EBE-40ADD14857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A8921-0896-4E6F-9FDD-9DF05B0AB2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3F456-5D0F-4322-9FB5-AB773B87C7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D3BB1-99E6-45B5-AC30-E10C95BDAC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DC740-3733-41F9-847F-192D13F7F6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0E82B-AEA6-40DB-947C-20FFF2F158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80F40-3117-40E5-B900-8B6061064D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0581B-2219-4884-8076-3557C7B75A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91924-6B06-42EE-8AB2-A3A12BED71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3B00E-F71F-4F9E-9F87-C4647C28A2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BEE62-FB1B-47DD-AB7D-0832C2935A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6BA86-7F7B-456B-8855-E91B562EA3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CAB02-2354-4EBE-AC1F-047254C7E3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8C64A-AE4D-4D72-A523-584CE2304C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105E1-8DF6-4984-9BDB-59D1662CEA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F427D-8FC5-482D-9F49-0C5EA0C65B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9212A-9D99-49B1-BD49-E381681E2A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F57F1-9063-4E3E-9829-108B641EB1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8C6EC-1018-43C4-8B6A-09272186B3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072BA-1C0C-4B2A-AB74-9C1EF2D8D6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2CF5F-A5AB-4C05-842F-28EFA36680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96A8C-51E0-4B15-AEA7-247016109C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7F45E-5F51-4769-9BB1-72E9EC0A2E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2F0EF-8CA3-4B38-A48D-042B087A80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8E9DF-B940-435E-8360-CA2319F29D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1B973-8D00-48B6-BBD0-FD1157ABEE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05764-6041-4167-ABF8-B5A813A729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76DE4-9807-4E25-BDE4-F44EF44E24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B00B8-CE8C-4C3B-88E7-91576031F4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8B1F7-55A0-4AED-B551-E7CEF15724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89018-9D40-4154-88CC-9CC409F655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DCD5D-8ECF-458C-AEB2-57C32741AC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A57FF-27AD-4F7B-A7BD-F809A03931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5C8C8-4B45-47B8-BAA4-6A4ADE2D5C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06F1C-30B2-43B9-AB15-9F83459249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7DF25-EF62-43A9-A1AB-094B3D5D73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F5F59-A2F1-4E41-976D-9D857A80CC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A6630-2C62-41C5-8ED1-3647E43B70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31E33-7914-470C-8C7A-5FCD72AF35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A2CF2-694F-41A2-B0AA-E1423B1FBF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DEED2-5216-4621-8AAF-657DB9C89C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603DC-078C-487A-8AF5-FBCB75659D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15414-4700-47EA-8C4A-226FF67DA5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6ACFD-293A-4FB1-A847-3BEF53BAF9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78240" y="10155240"/>
            <a:ext cx="32590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362D1-837D-447C-98DF-A5B9695120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106640" y="812880"/>
            <a:ext cx="533376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01DE5-1EE6-4860-AA5A-F036464FAA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6ECBE-33E1-4563-A063-81076DE6B6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ECA4A-6AC5-4DE8-95E9-E60AB0948E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3FFDB-806E-49E5-87C0-123BBAC666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B99BF-B565-49A2-9589-C3C252F6F0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9C070-29D4-416E-8998-729DC11A0B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C2436-2296-442C-A705-F8CA24335B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27BFF-A952-48D5-A125-A576CB3F7F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F9FA8-CBAC-4176-BC76-D00025F2FE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A9FC8-D37D-4EB0-BF06-609217989A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99AD8-BA55-42DC-AD04-7438FD8051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1FA4E-AB87-48FE-BBD0-D4E134387F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BC42E-C3F3-4D81-8EE7-EFBE03E4D7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751CF-B0CC-4AB9-AE68-43AA0FD81F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B5B1B-335B-4913-A43B-C06DE5FD39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06D75-97C8-48D7-A0E0-8F6F0F034B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AAF14-A547-44F9-9168-CA80FDA64E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E98AA-FAEC-4A9A-B207-C988E3DBB3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C9B66-F413-4757-9172-889F523112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73238-A063-4120-8CEA-76A5A37AC6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B539A-81D1-4F7D-9D94-086AD4E1EC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328C0-C6DC-4BEE-AFF2-51DBBEDB64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7824C-DA96-47BC-A457-97FB88A19F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B4A88-EBD3-420C-918E-8D5E45D2ED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BDDB4-89FA-48EB-98E9-C7D3CB7D1F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538CA-4F2B-4400-99F4-7552B176ED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F26C8-8F23-4ABC-8AF7-4AA90934DC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66FE5-F963-496A-9860-449EDF8952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BE2D4-CBB4-4A7D-9AC0-942051D389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05E3A-AC13-46F4-9798-097CD88AF8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ACCF2-1036-40A8-B540-59BFE4860B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DCEEE-B872-4FF3-9499-D363A67BC3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5A1CB-EEB6-4918-BE8C-E015AA751E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E9C2D-0274-410B-8789-6E6E5FB56A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A3B92-DC5C-424F-91EC-F55819731F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C233F-DF6A-43AF-AB6E-C11574C40E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C7F29-37FE-4F5F-962C-718ACC0C1A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32CDF-99F9-4B3C-A3AA-D33F6F8DA7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64B3B-71A9-45D3-9A85-B3DD37752A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D7712-5243-45EA-BE30-86F7A8F212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DF61C-5A47-47A9-9875-0E58B01BA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976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4653360"/>
            <a:ext cx="905976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465C2-2B5E-435E-89A1-77036D91A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454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88BC-5862-4F45-8FA6-D3275D130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66520" y="213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29760" y="213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465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66520" y="465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29760" y="465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B2234-978F-4316-B65C-C8E6316C7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C05A0-0554-4741-B223-A7598C19DE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597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1F429-FE59-4F86-950A-9C8216C898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976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73D43-B479-4BBE-944E-44D38ECC51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32A83-D501-4F2D-AD4C-1BC2605D0F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58867-DFB1-444C-9959-EAC185D6DE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3280" y="309600"/>
            <a:ext cx="9059760" cy="79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6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8D804-2617-4CC2-A3C7-C65DCDAF68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0BA10-7742-4B81-9E41-E7C0B78E42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597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970F-236D-4F4F-A891-71DB3FACD3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454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651CE-DCFE-41C0-8E08-01977BB702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3280" y="4653360"/>
            <a:ext cx="905976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9F7AF-D8AA-43A9-AF99-2C083595CB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976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3280" y="4653360"/>
            <a:ext cx="905976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0202C-C668-4E4C-AEE0-9844C4FE0B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32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454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7CB85-55A7-4486-9E27-014291DE22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66520" y="213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29760" y="213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3280" y="465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66520" y="465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29760" y="465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4B8AD-6499-4D20-98DA-F75A2E757E0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3E5F-DB99-4C9F-9FB9-D058B91859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597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9797-B8E5-4F47-B482-E578E6D8AD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976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FBB0-B8B6-4CC6-A7CA-AA0A9C1C725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E220-0ECC-4DE1-B54D-6B7A6E2C7E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A064-1D83-4650-A084-5F0BF147F8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976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B647A-BB59-40EC-BFF2-77AD198C774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03280" y="309600"/>
            <a:ext cx="9059760" cy="79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6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6FD9-C5C8-4F6C-91EE-FF72E822FC0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9914-8C57-43C5-B3D1-EB70A776AC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454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2ECD-61D9-424C-B0C8-EF9D176767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4653360"/>
            <a:ext cx="905976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C51E-82ED-4039-8735-4570CDCB8B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976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3280" y="4653360"/>
            <a:ext cx="905976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0506-F1C8-448A-A065-73661199CD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32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454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CC10-7B30-4262-8C3D-C5CFEE84C2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66520" y="213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29760" y="213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03280" y="465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66520" y="465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29760" y="465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16FD-40D8-4928-B2EE-89E574508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E0EFC-92B8-46E4-A531-614757DB8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0E41A-C1A7-42A0-A5D7-B13E22055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309600"/>
            <a:ext cx="9059760" cy="79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6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80EC9-3470-4B60-BE02-36568ACDD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1CE3A-87F5-40E8-B277-653E6A95F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454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4CE3D-49FE-40D6-8EEF-10FBF994CC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653360"/>
            <a:ext cx="905976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D097F-73CA-4C4E-9D88-FAF899EC8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5976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"/>
          <p:cNvSpPr/>
          <p:nvPr/>
        </p:nvSpPr>
        <p:spPr>
          <a:xfrm>
            <a:off x="503280" y="7007400"/>
            <a:ext cx="234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40120" y="7007400"/>
            <a:ext cx="36957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735760" y="7007040"/>
            <a:ext cx="826920" cy="3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3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3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1312E-8746-4C6A-B2DE-E154E02EBF30}" type="slidenum">
              <a:rPr b="0" lang="en-GB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0520" y="223920"/>
            <a:ext cx="10117080" cy="711000"/>
            <a:chOff x="-20520" y="223920"/>
            <a:chExt cx="10117080" cy="711000"/>
          </a:xfrm>
        </p:grpSpPr>
        <p:grpSp>
          <p:nvGrpSpPr>
            <p:cNvPr id="8" name=""/>
            <p:cNvGrpSpPr/>
            <p:nvPr/>
          </p:nvGrpSpPr>
          <p:grpSpPr>
            <a:xfrm>
              <a:off x="-20520" y="223920"/>
              <a:ext cx="10093320" cy="711000"/>
              <a:chOff x="-20520" y="223920"/>
              <a:chExt cx="10093320" cy="711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23920"/>
                <a:ext cx="1006812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20160" y="52812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20520" y="276120"/>
              <a:ext cx="10117080" cy="612720"/>
              <a:chOff x="-20520" y="276120"/>
              <a:chExt cx="10117080" cy="61272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76120"/>
                <a:ext cx="10099800" cy="61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20160" y="577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20520" y="223920"/>
            <a:ext cx="10117080" cy="711000"/>
            <a:chOff x="-20520" y="223920"/>
            <a:chExt cx="10117080" cy="711000"/>
          </a:xfrm>
        </p:grpSpPr>
        <p:grpSp>
          <p:nvGrpSpPr>
            <p:cNvPr id="53" name=""/>
            <p:cNvGrpSpPr/>
            <p:nvPr/>
          </p:nvGrpSpPr>
          <p:grpSpPr>
            <a:xfrm>
              <a:off x="-20520" y="223920"/>
              <a:ext cx="10093320" cy="711000"/>
              <a:chOff x="-20520" y="223920"/>
              <a:chExt cx="10093320" cy="711000"/>
            </a:xfrm>
          </p:grpSpPr>
          <p:pic>
            <p:nvPicPr>
              <p:cNvPr id="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23920"/>
                <a:ext cx="1006812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20000">
                <a:off x="-20160" y="52812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-20520" y="276120"/>
              <a:ext cx="10117080" cy="612720"/>
              <a:chOff x="-20520" y="276120"/>
              <a:chExt cx="10117080" cy="612720"/>
            </a:xfrm>
          </p:grpSpPr>
          <p:pic>
            <p:nvPicPr>
              <p:cNvPr id="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76120"/>
                <a:ext cx="10099800" cy="61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20000">
                <a:off x="-20160" y="577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5976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"/>
          <p:cNvSpPr/>
          <p:nvPr/>
        </p:nvSpPr>
        <p:spPr>
          <a:xfrm>
            <a:off x="503280" y="7007400"/>
            <a:ext cx="234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40120" y="7007400"/>
            <a:ext cx="36957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8735760" y="7007040"/>
            <a:ext cx="826920" cy="3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35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3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35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5B17E32-D1D4-4971-A043-632DDD287531}" type="slidenum">
              <a:rPr b="0" lang="en-GB" sz="13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20520" y="223920"/>
            <a:ext cx="10117080" cy="711000"/>
            <a:chOff x="-20520" y="223920"/>
            <a:chExt cx="10117080" cy="711000"/>
          </a:xfrm>
        </p:grpSpPr>
        <p:grpSp>
          <p:nvGrpSpPr>
            <p:cNvPr id="103" name=""/>
            <p:cNvGrpSpPr/>
            <p:nvPr/>
          </p:nvGrpSpPr>
          <p:grpSpPr>
            <a:xfrm>
              <a:off x="-20520" y="223920"/>
              <a:ext cx="10093320" cy="711000"/>
              <a:chOff x="-20520" y="223920"/>
              <a:chExt cx="10093320" cy="711000"/>
            </a:xfrm>
          </p:grpSpPr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23920"/>
                <a:ext cx="1006812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20000">
                <a:off x="-20160" y="52812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-20520" y="276120"/>
              <a:ext cx="10117080" cy="612720"/>
              <a:chOff x="-20520" y="276120"/>
              <a:chExt cx="10117080" cy="612720"/>
            </a:xfrm>
          </p:grpSpPr>
          <p:pic>
            <p:nvPicPr>
              <p:cNvPr id="10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76120"/>
                <a:ext cx="10099800" cy="61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20000">
                <a:off x="-20160" y="577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5976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"/>
          <p:cNvSpPr/>
          <p:nvPr/>
        </p:nvSpPr>
        <p:spPr>
          <a:xfrm>
            <a:off x="503280" y="7007400"/>
            <a:ext cx="234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40120" y="7007400"/>
            <a:ext cx="36957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3"/>
          </p:nvPr>
        </p:nvSpPr>
        <p:spPr>
          <a:xfrm>
            <a:off x="8735760" y="7007040"/>
            <a:ext cx="826920" cy="3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35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3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35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547BEA1-FB5C-4FD2-B10D-F65332422846}" type="slidenum">
              <a:rPr b="0" lang="en-GB" sz="13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611520" y="636480"/>
            <a:ext cx="2584440" cy="216864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676440" y="2693880"/>
            <a:ext cx="8667720" cy="4248360"/>
            <a:chOff x="676440" y="2693880"/>
            <a:chExt cx="8667720" cy="4248360"/>
          </a:xfrm>
        </p:grpSpPr>
        <p:sp>
          <p:nvSpPr>
            <p:cNvPr id="182" name=""/>
            <p:cNvSpPr/>
            <p:nvPr/>
          </p:nvSpPr>
          <p:spPr>
            <a:xfrm>
              <a:off x="676440" y="2693880"/>
              <a:ext cx="8667720" cy="42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68360" y="2208240"/>
            <a:ext cx="921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0360" y="2879640"/>
            <a:ext cx="899964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Calibri"/>
                <a:ea typeface="Arial"/>
              </a:rPr>
              <a:t>Plano Nacional de Recursos Hídr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2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Calibri"/>
                <a:ea typeface="Arial"/>
              </a:rPr>
              <a:t>Um Pacto pelas Águas do Bras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ffff"/>
                </a:solidFill>
                <a:latin typeface="Calibri"/>
                <a:ea typeface="Arial"/>
              </a:rPr>
              <a:t>Oficina Nacional de Consolidação do Processo Participativo da Revisão do PNR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ia Nacional de Recursos Hídricos e Ambiente Urb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RHU/M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rasília, novembro de 201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25440" y="779400"/>
            <a:ext cx="9313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Quadro analítico dos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04640" y="1495440"/>
          <a:ext cx="9360000" cy="5746680"/>
        </p:xfrm>
        <a:graphic>
          <a:graphicData uri="http://schemas.openxmlformats.org/drawingml/2006/table">
            <a:tbl>
              <a:tblPr/>
              <a:tblGrid>
                <a:gridCol w="4710960"/>
                <a:gridCol w="4649040"/>
              </a:tblGrid>
              <a:tr h="5746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ntos For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Relacionado ao objetivo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Oficinas ocorreram de forma participativa: contemplaram a posição e discussão dos diferentes entes envolvidos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Houve alto grau de apropriação do Plano Nacional em relação ao anteriormente existente.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Houve reforço da Região Hidrográfica como um território da GIRH, parcialmente apropriada pelos participantes das Oficin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do ao objetivo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De maneira geral, as participações apontaram prioridades regionais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Relacionado ao objetivo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ções repetidas nos Subprogramas sugerem revisão da estrutura lógica do Plano.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ntos Fra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Relacionado ao objetivo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Entendimento ainda frágil da escala/abrangência do PNRH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do ao objetivo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Falta de entendimento dos participantes para diferenciar Ação de Diretriz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Falta de entendimento das relações de causalidade entre as ações e do tempo necessário para a realização de cada Ação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do ao objetivo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As propostas para a revisão da estrutura do PNRH, em sua maioria, são indiretas pois este não foi considerado item prioritário da metodologia das Oficinas Regionais e o tempo para esta atividade seria insuficiente.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25440" y="779400"/>
            <a:ext cx="9313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Quadro analítico dos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70000" y="1589040"/>
          <a:ext cx="9607320" cy="5721480"/>
        </p:xfrm>
        <a:graphic>
          <a:graphicData uri="http://schemas.openxmlformats.org/drawingml/2006/table">
            <a:tbl>
              <a:tblPr/>
              <a:tblGrid>
                <a:gridCol w="4835520"/>
                <a:gridCol w="4771800"/>
              </a:tblGrid>
              <a:tr h="57214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safios/Oportun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alizar uma série de atividades de filtragem e complementação para sistematizar os resultados das Oficinas Regionais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Separar Ação de Diretriz nos quadros resultantes das Oficinas Regionais, relacionando as diretrizes com as ações às quais estejam vinculadas.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Organizar relações de causalidade entre as ações e agrupar diferentes Ações propostas nas Oficin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Definir os responsáveis e parceiros para a execução de cada uma das ações propostas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Organizar e detalhar as ações priorizadas nas Oficinas Regionais em Resumos Executivos, dando ênfase na elaboração das consideradas mais relevantes pelos participantes das Oficin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is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Participação pouco representativa na Oficina N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Não obtenção de apoio institucional/parceria da CT – PNRH para o encaminhamento dos produtos da revisão ao CNR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152280" y="1504800"/>
            <a:ext cx="9585360" cy="4343400"/>
            <a:chOff x="152280" y="1504800"/>
            <a:chExt cx="9585360" cy="4343400"/>
          </a:xfrm>
        </p:grpSpPr>
        <p:sp>
          <p:nvSpPr>
            <p:cNvPr id="242" name=""/>
            <p:cNvSpPr/>
            <p:nvPr/>
          </p:nvSpPr>
          <p:spPr>
            <a:xfrm>
              <a:off x="152280" y="1504800"/>
              <a:ext cx="958536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360360" y="3371760"/>
            <a:ext cx="89996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50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 u="sng">
                <a:solidFill>
                  <a:srgbClr val="00ffff"/>
                </a:solidFill>
                <a:uFillTx/>
                <a:latin typeface="Calibri"/>
                <a:ea typeface="Arial"/>
              </a:rPr>
              <a:t>Proposta Metodológica da Oficina Nacional de Consolidação do Processo Participativo de Revisão do PNR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68360" y="1800360"/>
            <a:ext cx="943128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99ff"/>
                </a:solidFill>
                <a:latin typeface="Verdana"/>
                <a:ea typeface="Arial"/>
              </a:rPr>
              <a:t>G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Verdana"/>
                <a:ea typeface="Arial"/>
              </a:rPr>
              <a:t>consolidar o processo participativo de Revisão do PNRH 2025 desenvolvido com oficinas de trabalho (Nacionais e Regionais) ocorridas no ano de 2010, dando enfoque no planejamento da implementação do PNRH para os anos de</a:t>
            </a:r>
            <a:r>
              <a:rPr b="0" i="1" lang="pt-BR" sz="22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  <a:ea typeface="Arial"/>
              </a:rPr>
              <a:t>2011-20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99ff"/>
                </a:solidFill>
                <a:latin typeface="Verdana"/>
                <a:ea typeface="Arial"/>
              </a:rPr>
              <a:t>Específ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. apresentar os resultados da sistematização dos produtos das Oficinas Regionais e Nacionais de Revisão do PNRH 2025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i. debater e qualificar o detalhamento de ações prioritárias que envolvam diferentes entes do SINGREH para sua implementação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ii. apresentar os encaminhamentos do processo de Revisão do PNRH 2025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5440" y="923760"/>
            <a:ext cx="9313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Obje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25440" y="779400"/>
            <a:ext cx="9313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Objetivos -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60360" y="1800360"/>
          <a:ext cx="9358200" cy="5580000"/>
        </p:xfrm>
        <a:graphic>
          <a:graphicData uri="http://schemas.openxmlformats.org/drawingml/2006/table">
            <a:tbl>
              <a:tblPr/>
              <a:tblGrid>
                <a:gridCol w="4672080"/>
                <a:gridCol w="4686120"/>
              </a:tblGrid>
              <a:tr h="43488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Objetivo específ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Resultado esper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1584360">
                <a:tc>
                  <a:txBody>
                    <a:bodyPr lIns="90000" rIns="90000" tIns="97200" bIns="4680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. apresentar os resultados da sistematização dos produtos das Oficinas Regionais e Nacionais de Revisão do PNRH 2025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conhecimento dos resultados das Oficinas (Regionais e Nacionais) ocorridas em 2010, principalmente no que se refere ao planejamento de ações entre 2011-2014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1984320">
                <a:tc>
                  <a:txBody>
                    <a:bodyPr lIns="90000" rIns="90000" tIns="97200" bIns="4680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i. debater e qualificar o detalhamento de ações prioritárias que envolvam diferentes entes do SINGREH para sua implementação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i. detalhamento executivo das principais ações apontadas nas Oficinas participativa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576440">
                <a:tc>
                  <a:txBody>
                    <a:bodyPr lIns="90000" rIns="90000" tIns="97200" bIns="4680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. apresentar os encaminhamentos do processo de Revisão do PNRH 2025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. conhecimento dos próximos passos para a finalização da Revisão do PNRH 2025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68360" y="1800360"/>
            <a:ext cx="9431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Demanda elaboração prévia à Oficina Nacional das seguintes informações organizadas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(1) Matrizes que sintetizam as ações e encaminhamentos das Oficinas participativa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(2) Consolidação, por meio da aplicação de critérios, de um conjunto de ações prioritárias que tiverem sido propostas nas Oficinas Regionais e Naciona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(3) Detalhamento executivo das ações prioritária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(4) Próximos passos  da Revisão do PNRH 2025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5440" y="923760"/>
            <a:ext cx="9313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Produtos prév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8360" y="1800360"/>
            <a:ext cx="9431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1. Sistematização e análise dos resultados das Oficinas Regionais e Nacionais do PNRH em termos de ações 2011-2014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. Tratamento e Sistematização dos dados resultantes das Ofici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i. Definição das ações a serem detalhadas para a Oficina N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2. Detalhamento executivo de  ações a serem debatidas pelos grupos de trabalho da Oficina Nacion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440" y="923760"/>
            <a:ext cx="9313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Trabalho técnico prév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68360" y="1800360"/>
            <a:ext cx="9431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Momento 1. Apresentação da síntese do processo participativo de Revisão do PNR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rogramação: 23/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Momento 2. Grupos de Trabalho para o debate sobre o detalhamento executivo de  açõ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rogramação: 24 e 25/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Momento 3. Apresentação, em plenária do XII ENCOB, dos resultados da Ofici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rogramação: 25/11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5440" y="923760"/>
            <a:ext cx="931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Trabalhos da Oficina Nacion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68360" y="1800360"/>
            <a:ext cx="9431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Critérios às ações hierarquizad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i.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Diferenciar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diretriz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de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ã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relacionando, quando for o caso, as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diretriz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com as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õ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às quais estejam vinculada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ii. Identificar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ões que não são da alçada do Plano Naciona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e sim dos Planos Estaduais ou de Bacia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iii.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grupa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ões semelhant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(de texto ou que pretendem atingir a mesma finalidade) e unificá-la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iv.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relações de causalidade entre as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õ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propostas e agrupar, quando possível, diferentes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õ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complementar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v.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pontar a região à qual a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ão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está vinculad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, esclarecendo a área e sua escala de abrangênci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5440" y="720720"/>
            <a:ext cx="931392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Trabalho técnico prév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ase 1 – Tratamento e Sistematização dos dados resultantes das Oficinas participativas – Oficinas Regiona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68360" y="1800360"/>
            <a:ext cx="9431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vi. Agrupar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õ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de âmbito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naciona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que devam ser estabelecidas para a totalidade das Regiões Hidrográficas, e ações de âmbito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regiona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que têm pertinência a somente um conjunto das Regiões Hidrográficas do país ou a uma região específica. Ao separar ações de caráter regionalizado e  de âmbito nacional é relevante buscar constituir “tipologias” de prioridades regionai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vii. Destacar as ações que envolvem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cooperação federativ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(ação articulada entre  diferentes entes do Sistema) em sua execução e as ações que dependem exclusivamente dos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órgãos federai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para a sua execução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viii. Destacar, ainda, as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õ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mais votada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em termos d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porcentuais do total dos vot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de cada  Oficin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=&gt; quadro com as informações associadas a cada açã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5440" y="720720"/>
            <a:ext cx="931392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Trabalho técnico prév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ase 1 – Tratamento e Sistematização dos dados resultantes das Oficinas participativas – Oficinas Regiona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152280" y="1504800"/>
            <a:ext cx="9585360" cy="4343400"/>
            <a:chOff x="152280" y="1504800"/>
            <a:chExt cx="9585360" cy="4343400"/>
          </a:xfrm>
        </p:grpSpPr>
        <p:sp>
          <p:nvSpPr>
            <p:cNvPr id="186" name=""/>
            <p:cNvSpPr/>
            <p:nvPr/>
          </p:nvSpPr>
          <p:spPr>
            <a:xfrm>
              <a:off x="152280" y="1504800"/>
              <a:ext cx="958536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0360" y="3371760"/>
            <a:ext cx="89996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50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 u="sng">
                <a:solidFill>
                  <a:srgbClr val="00ffff"/>
                </a:solidFill>
                <a:uFillTx/>
                <a:latin typeface="Calibri"/>
                <a:ea typeface="Arial"/>
              </a:rPr>
              <a:t>Contexto da Oficina Nacional na Revisão do PNRH 2025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68360" y="1800360"/>
            <a:ext cx="9431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Extraídas ações e diretrizes relevantes dos debates realizados que sejam coerentes com a alçada do Plano Naciona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(transcrições, documentos técnicos e apresentaçõ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i. A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çõ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de âmbito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nacional,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que devem ser estabelecidas para a totalidade das Regiões Hidrográficas, 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õ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de âmbito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regional,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que têm pertinência a somente um conjunto das Regiões Hidrográficas do país ou a uma região específica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ii.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õ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que envolvem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cooperação federativ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(ação articulada entre  diferentes entes do Sistema) em sua execução e as ações que dependem exclusivamente dos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órgãos federai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para a sua execução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=&gt; quadro com as informações associadas a cada açã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5440" y="720720"/>
            <a:ext cx="931392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Trabalho técnico prév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ase 1 – Tratamento e Sistematização dos dados resultantes das Oficinas participativas – Oficinas Naciona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68360" y="1800360"/>
            <a:ext cx="9431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Os quadros apresentarão as ações detalhadas para os Trabalhos dos Grupos da Oficina Nacion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Deve-se escolh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. Ações que envolvem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cooperação federativ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=&gt; Integrar ações de ordem regional (tipologias) e ações de ordem nacion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*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Considerar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 diretriz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 como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 apontamentos que visam orientar a implementação da ação, garantindo a qualidade esperad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.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5440" y="923760"/>
            <a:ext cx="9313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Trabalho técnico prév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68360" y="1800360"/>
            <a:ext cx="9431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Detalhamento das ações apontando quatro categorias (matriz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. Objetivo da Açã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b. Metas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que contenham os produtos resultantes da Ação e a data de entrega dos produ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c. Diretrizes para a implementação das ações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(diretrizes não são obrigatórias – valorização das colocações das Oficina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d. Executores e parceiros responsáveis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pela implementação da ação.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5440" y="720720"/>
            <a:ext cx="931392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Trabalho técnico prév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ase 2 – Detalhamento executivo de  ações a serem debatidas pelos grupos de trabalho da Oficina N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68360" y="2879640"/>
            <a:ext cx="9431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Matriz lógica modelo de agrupemento de ações para os Grupos de Trabal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5440" y="720720"/>
            <a:ext cx="931392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Trabalho técnico prév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ase 2 – Detalhamento executivo de  ações a serem debatidas pelos grupos de trabalho da Oficina N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19200" y="4176720"/>
          <a:ext cx="8459280" cy="2518920"/>
        </p:xfrm>
        <a:graphic>
          <a:graphicData uri="http://schemas.openxmlformats.org/drawingml/2006/table">
            <a:tbl>
              <a:tblPr/>
              <a:tblGrid>
                <a:gridCol w="2217960"/>
                <a:gridCol w="1235160"/>
                <a:gridCol w="1464120"/>
                <a:gridCol w="1640160"/>
                <a:gridCol w="1901880"/>
              </a:tblGrid>
              <a:tr h="843120">
                <a:tc gridSpan="5"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RUPO DE TRABALHO (ex. Eixo Temátic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580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ubpro-gra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bje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et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retriz(e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68360" y="1800360"/>
            <a:ext cx="9431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icha “Resumo Executivo” de cada ação com as categori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. Nome da ação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(subprograma e programa do PNRH relacionado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b. Objetivo do Program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,  apontando o objetivo do programa ao qual a ação está vinculad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c. Objetivo da aç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d. Metas esperada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, apontando os resultados parciais quantificados e vinculá-los à data de alc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e. Responsáveis e parceiros pela execução da açã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. Diretrizes para implementar a açã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5440" y="720720"/>
            <a:ext cx="931392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Trabalho técnico prév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ase 2 – Detalhamento executivo de  ações a serem debatidas pelos grupos de trabalho da Oficina N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68360" y="1800360"/>
            <a:ext cx="9431280" cy="51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Resumo Executivo Model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Verdana"/>
                <a:ea typeface="Arial"/>
              </a:rPr>
              <a:t>Constituir uma Rede de Experiências de Educação, Comunicação e Mobilização Social em GIRH. </a:t>
            </a:r>
            <a:r>
              <a:rPr b="1" lang="pt-BR" sz="1500" spc="-1" strike="noStrike">
                <a:solidFill>
                  <a:srgbClr val="000000"/>
                </a:solidFill>
                <a:latin typeface="Verdana"/>
                <a:ea typeface="Arial"/>
              </a:rPr>
              <a:t>(Programa IV, subprogramas 2 e 3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Verdana"/>
                <a:ea typeface="Arial"/>
              </a:rPr>
              <a:t>Objetivo do Programa </a:t>
            </a:r>
            <a:r>
              <a:rPr b="0" lang="pt-BR" sz="1500" spc="-1" strike="noStrike">
                <a:solidFill>
                  <a:srgbClr val="000000"/>
                </a:solidFill>
                <a:latin typeface="Verdana"/>
                <a:ea typeface="Arial"/>
              </a:rPr>
              <a:t>(não possui objetivo do Program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Objetivo da ação: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Viabilizar o funcionamento continuado de uma rede de troca de experiências em comunicação, educação e mobilização social em GIRH para diferentes entes do SINGREH. </a:t>
            </a:r>
            <a:r>
              <a:rPr b="1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Meta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A - Experiências e atores mapeadas até o final de 2011 (02/2011-12/2011).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B - Plataforma virtual pronta até o meio de 2012 (10/2011-07/2012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C - Moderadores de rede formados e atuando até o final de 2012 (01/2012-09/2012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Diretrizes estratégicas: (se houv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. Garantir que a construção da ferramenta e da formação em moderação de forma participativa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. Conter enfoque educomunicativo, onde os envolvidos sejam participantes do desenvolvimento da ferramenta e contribuam com a definição da estratégia de formação e de atuação dos moderadores da Rede. Utilizar moderadores de instituições estabelecidas no Sistema e com perspectiva de continuidade na função para o critério de escolha e participação da formação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. Constituir a rede valorizando a perspectiva de Região Hidrográfica.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  <a:ea typeface="Arial"/>
              </a:rPr>
              <a:t>Responsáveis pela Execução: SRHU (A, B e C) e ANA (B e C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  <a:ea typeface="Arial"/>
              </a:rPr>
              <a:t>Parceiros: OGs, DEA, FNCBH e instituições com experiências mapeadas. (A, B e C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5440" y="720720"/>
            <a:ext cx="931392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Trabalho técnico prév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ase 2 – Detalhamento executivo de  ações a serem debatidas pelos grupos de trabalho da Oficina N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68360" y="1800360"/>
            <a:ext cx="9431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categorias de representaçã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. 6 representantes (dois por segmento) de cada Estad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i. Conselheiros do Conselho Nacional de Recursos Hídricos (CNRH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ii. 24 representantes do Fórum Nacional de Comitês de Bacia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v. Representantes da Câmara Técnica do Plano Nacional de Recursos Hídricos (CTPNRH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v. Representantes de Comitês de Bacia Federai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5440" y="923760"/>
            <a:ext cx="931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Proposta de Mobiliz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25440" y="923760"/>
            <a:ext cx="9313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Proposta de Mobiliz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Estimativa de participantes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360360" y="2519280"/>
          <a:ext cx="9180360" cy="3552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0360" y="2519280"/>
                    <a:ext cx="918036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68360" y="1800360"/>
            <a:ext cx="9431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99ff"/>
                </a:solidFill>
                <a:latin typeface="Verdana"/>
                <a:ea typeface="Arial"/>
              </a:rPr>
              <a:t>23/1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Contextualização da Oficina Nacional e apresentação da síntese do processo participativo de Revisão do PNR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99ff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8h00 às 12h0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. Mesa de aber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. Apresentação A Oficina Nacional no contexto da Revisão do PNRH (SRHU/MM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. Apresentação da programação da Oficina (SRHU/MM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. Interva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. Apresentação da Síntese das Oficinas Participativ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. Esclarecimen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. Apresentação dos próximos passos da Revisão do PNR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. Esclarecim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12h00 Encerramento das atividades do 1º d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5440" y="923760"/>
            <a:ext cx="931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PROGRAM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68360" y="1800360"/>
            <a:ext cx="9431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99ff"/>
                </a:solidFill>
                <a:latin typeface="Verdana"/>
                <a:ea typeface="Arial"/>
              </a:rPr>
              <a:t>24/1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Detalhamento das ações – trabalhos em grup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8h00 às 12h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. Grupos de Trabalho - divisão por Eixo Temá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. Apresentação das elaborações técnicas por eixo temátic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. Debates nos grupos por Eixo Temá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12h00 Encerramento das atividades do 2º d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5440" y="923760"/>
            <a:ext cx="931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PROGRAM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023840" y="2401920"/>
            <a:ext cx="8107560" cy="45165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Fases da Revis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468360" y="1800360"/>
            <a:ext cx="9431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99ff"/>
                </a:solidFill>
                <a:latin typeface="Verdana"/>
                <a:ea typeface="Arial"/>
              </a:rPr>
              <a:t>26/1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pt-BR" sz="2000" spc="-1" strike="noStrike">
                <a:solidFill>
                  <a:srgbClr val="ff0000"/>
                </a:solidFill>
                <a:latin typeface="Verdana"/>
                <a:ea typeface="Arial"/>
              </a:rPr>
              <a:t>Horário a definir: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. Apresentação em plenária:  Apontamentos para a construção de Estratégia Regional de Educação Ambiental,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Comunicação e Mobilização Social para GIR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pt-BR" sz="2000" spc="-1" strike="noStrike">
                <a:solidFill>
                  <a:srgbClr val="ff0000"/>
                </a:solidFill>
                <a:latin typeface="Verdana"/>
                <a:ea typeface="Arial"/>
              </a:rPr>
              <a:t>Horário a defini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. Encerramento Oficial da Oficina Nacional de Consolidação do Processo Participativ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5440" y="923760"/>
            <a:ext cx="931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PROGRAM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603360" y="1828800"/>
            <a:ext cx="8580240" cy="1947960"/>
            <a:chOff x="603360" y="1828800"/>
            <a:chExt cx="8580240" cy="1947960"/>
          </a:xfrm>
        </p:grpSpPr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603360" y="1828800"/>
              <a:ext cx="8580240" cy="19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603360" y="1828800"/>
              <a:ext cx="8580240" cy="19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584280" y="2981160"/>
            <a:ext cx="856908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articipe desse pacto pelas águas do Bras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152280" y="1504800"/>
            <a:ext cx="9585360" cy="4343400"/>
            <a:chOff x="152280" y="1504800"/>
            <a:chExt cx="9585360" cy="4343400"/>
          </a:xfrm>
        </p:grpSpPr>
        <p:sp>
          <p:nvSpPr>
            <p:cNvPr id="287" name=""/>
            <p:cNvSpPr/>
            <p:nvPr/>
          </p:nvSpPr>
          <p:spPr>
            <a:xfrm>
              <a:off x="152280" y="1504800"/>
              <a:ext cx="958536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79280" y="2519280"/>
            <a:ext cx="9720360" cy="43293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25440" y="923760"/>
            <a:ext cx="931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Fluxograma das três fases da revisão do PNR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500040" y="1414440"/>
            <a:ext cx="9075600" cy="1077840"/>
            <a:chOff x="500040" y="1414440"/>
            <a:chExt cx="9075600" cy="1077840"/>
          </a:xfrm>
        </p:grpSpPr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500040" y="1414440"/>
              <a:ext cx="907560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00040" y="1414440"/>
              <a:ext cx="9075600" cy="10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96720" y="1351080"/>
            <a:ext cx="9266400" cy="4991040"/>
            <a:chOff x="396720" y="1351080"/>
            <a:chExt cx="9266400" cy="4991040"/>
          </a:xfrm>
        </p:grpSpPr>
        <p:pic>
          <p:nvPicPr>
            <p:cNvPr id="294" name="" descr=""/>
            <p:cNvPicPr/>
            <p:nvPr/>
          </p:nvPicPr>
          <p:blipFill>
            <a:blip r:embed="rId3"/>
            <a:stretch/>
          </p:blipFill>
          <p:spPr>
            <a:xfrm>
              <a:off x="396720" y="1351080"/>
              <a:ext cx="9266400" cy="49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396720" y="1351080"/>
              <a:ext cx="9266400" cy="49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152280" y="1504800"/>
            <a:ext cx="9585360" cy="4343400"/>
            <a:chOff x="152280" y="1504800"/>
            <a:chExt cx="9585360" cy="4343400"/>
          </a:xfrm>
        </p:grpSpPr>
        <p:sp>
          <p:nvSpPr>
            <p:cNvPr id="297" name=""/>
            <p:cNvSpPr/>
            <p:nvPr/>
          </p:nvSpPr>
          <p:spPr>
            <a:xfrm>
              <a:off x="152280" y="1504800"/>
              <a:ext cx="958536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60360" y="3371760"/>
            <a:ext cx="89996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50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 u="sng">
                <a:solidFill>
                  <a:srgbClr val="00ffff"/>
                </a:solidFill>
                <a:uFillTx/>
                <a:latin typeface="Calibri"/>
                <a:ea typeface="Arial"/>
              </a:rPr>
              <a:t>Contexto da Oficina Nacional na Revisão do PNRH 2025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890640" y="1987560"/>
            <a:ext cx="9104400" cy="4654440"/>
            <a:chOff x="890640" y="1987560"/>
            <a:chExt cx="9104400" cy="4654440"/>
          </a:xfrm>
        </p:grpSpPr>
        <p:sp>
          <p:nvSpPr>
            <p:cNvPr id="300" name=""/>
            <p:cNvSpPr/>
            <p:nvPr/>
          </p:nvSpPr>
          <p:spPr>
            <a:xfrm>
              <a:off x="890640" y="1987560"/>
              <a:ext cx="9104400" cy="465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60360" y="3371760"/>
            <a:ext cx="89996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50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 u="sng">
                <a:solidFill>
                  <a:srgbClr val="00ffff"/>
                </a:solidFill>
                <a:uFillTx/>
                <a:latin typeface="Calibri"/>
                <a:ea typeface="Arial"/>
              </a:rPr>
              <a:t>OFICINA NACIONAL DE CONSOLIDAÇÃO DO PROCESSO PARTICIPATIVO DE REVISÃO DO PNR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0360" y="3371760"/>
            <a:ext cx="89996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50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 u="sng">
                <a:solidFill>
                  <a:srgbClr val="00ffff"/>
                </a:solidFill>
                <a:uFillTx/>
                <a:latin typeface="Calibri"/>
                <a:ea typeface="Arial"/>
              </a:rPr>
              <a:t>OFICINA NACIONAL DE CONSOLIDAÇÃO DO PROCESSO PARTICIPATIVO DE REVISÃO DO PNR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68360" y="2208240"/>
            <a:ext cx="9215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CTO NACION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ara a definição de diretrizes e políticas públicas voltadas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RA A MELHORIA DA OFERTA DA ÁGUA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m quantidade e qualidade, gerenciando as demandas e considerando ser a água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ELEMENTO ESTRUTURANTE PARA A IMPLEMENTAÇÃO DAS POLÍTICAS SETORIAIS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ob a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ÓTICA DO DESENVOLVIMENTO SUSTENTÁVEL E DA INCLUSÃO SOC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95280" y="565200"/>
            <a:ext cx="90741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04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Eventos Nacion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738360" y="2060640"/>
            <a:ext cx="833256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96720" y="779400"/>
            <a:ext cx="90741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04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70c0"/>
                </a:solidFill>
                <a:latin typeface="Calibri"/>
              </a:rPr>
              <a:t>Foco: aprofundamento de temas</a:t>
            </a:r>
            <a:br>
              <a:rPr sz="3600"/>
            </a:br>
            <a:r>
              <a:rPr b="0" lang="en-GB" sz="3600" spc="-1" strike="noStrike">
                <a:solidFill>
                  <a:srgbClr val="0070c0"/>
                </a:solidFill>
                <a:latin typeface="Calibri"/>
              </a:rPr>
              <a:t> de interesse para a GIR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44440" y="2225520"/>
            <a:ext cx="9237600" cy="4953240"/>
            <a:chOff x="244440" y="2225520"/>
            <a:chExt cx="9237600" cy="4953240"/>
          </a:xfrm>
        </p:grpSpPr>
        <p:pic>
          <p:nvPicPr>
            <p:cNvPr id="309" name="" descr=""/>
            <p:cNvPicPr/>
            <p:nvPr/>
          </p:nvPicPr>
          <p:blipFill>
            <a:blip r:embed="rId2"/>
            <a:stretch/>
          </p:blipFill>
          <p:spPr>
            <a:xfrm>
              <a:off x="244440" y="2225520"/>
              <a:ext cx="923760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244440" y="2225520"/>
              <a:ext cx="9237600" cy="49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68360" y="2208240"/>
            <a:ext cx="9215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CTO NACION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ara a definição de diretrizes e políticas públicas voltadas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RA A MELHORIA DA OFERTA DA ÁGUA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m quantidade e qualidade, gerenciando as demandas e considerando ser a água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ELEMENTO ESTRUTURANTE PARA A IMPLEMENTAÇÃO DAS POLÍTICAS SETORIAIS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ob a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ÓTICA DO DESENVOLVIMENTO SUSTENTÁVEL E DA INCLUSÃO SOC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Vertentes da Revis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2208240"/>
            <a:ext cx="9215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vertent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naciona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teve como objetivo debater e aprofundar sobre temas importantes da atualidade para a gestão de recursos hídr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Os principais eventos relacionad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NewRomanPSMT"/>
              </a:rPr>
              <a:t> são os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NewRomanPS-ItalicMT"/>
              </a:rPr>
              <a:t>Seminários Diálogos com a Ág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NewRomanPS-ItalicMT"/>
              </a:rPr>
              <a:t>vertent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NewRomanPS-ItalicMT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NewRomanPS-ItalicMT"/>
              </a:rPr>
              <a:t>regiona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NewRomanPS-ItalicMT"/>
              </a:rPr>
              <a:t>, com enfoque nas 12 Regiões Hidrográficas, e tem como objetivo geral promover a priorização regional das ações do PNRH para o período 2011-2014, harmonizadas entre os Estados pertencentes  a cada Região Hidrográf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68360" y="2208240"/>
            <a:ext cx="9215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CTO NACION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ara a definição de diretrizes e políticas públicas voltadas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RA A MELHORIA DA OFERTA DA ÁGUA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m quantidade e qualidade, gerenciando as demandas e considerando ser a água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ELEMENTO ESTRUTURANTE PARA A IMPLEMENTAÇÃO DAS POLÍTICAS SETORIAIS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ob a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ÓTICA DO DESENVOLVIMENTO SUSTENTÁVEL E DA INCLUSÃO SOC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152280" y="1504800"/>
            <a:ext cx="9585360" cy="4343400"/>
            <a:chOff x="152280" y="1504800"/>
            <a:chExt cx="9585360" cy="4343400"/>
          </a:xfrm>
        </p:grpSpPr>
        <p:sp>
          <p:nvSpPr>
            <p:cNvPr id="316" name=""/>
            <p:cNvSpPr/>
            <p:nvPr/>
          </p:nvSpPr>
          <p:spPr>
            <a:xfrm>
              <a:off x="152280" y="1504800"/>
              <a:ext cx="958536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360360" y="3371760"/>
            <a:ext cx="89996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50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 u="sng">
                <a:solidFill>
                  <a:srgbClr val="00ffff"/>
                </a:solidFill>
                <a:uFillTx/>
                <a:latin typeface="Calibri"/>
                <a:ea typeface="Arial"/>
              </a:rPr>
              <a:t>Análise das Oficinas Regionais de Revisão do PNR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517840"/>
            <a:ext cx="100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Figura 3 – Percentuais de ações propostas por Eixo Temático nas Regiões Hidrográf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8001000" cy="39560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0" y="2471760"/>
            <a:ext cx="1008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Análise em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04920" y="1676520"/>
            <a:ext cx="9524880" cy="5715000"/>
            <a:chOff x="304920" y="1676520"/>
            <a:chExt cx="9524880" cy="5715000"/>
          </a:xfrm>
        </p:grpSpPr>
        <p:grpSp>
          <p:nvGrpSpPr>
            <p:cNvPr id="324" name=""/>
            <p:cNvGrpSpPr/>
            <p:nvPr/>
          </p:nvGrpSpPr>
          <p:grpSpPr>
            <a:xfrm>
              <a:off x="304920" y="1676520"/>
              <a:ext cx="4768560" cy="2923920"/>
              <a:chOff x="304920" y="1676520"/>
              <a:chExt cx="4768560" cy="2923920"/>
            </a:xfrm>
          </p:grpSpPr>
          <p:sp>
            <p:nvSpPr>
              <p:cNvPr id="325" name=""/>
              <p:cNvSpPr/>
              <p:nvPr/>
            </p:nvSpPr>
            <p:spPr>
              <a:xfrm>
                <a:off x="412920" y="1676520"/>
                <a:ext cx="4552920" cy="29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  <a:ea typeface="Calibri"/>
                  </a:rPr>
                  <a:t>Pontos Fort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 u="sng">
                    <a:solidFill>
                      <a:srgbClr val="ffffff"/>
                    </a:solidFill>
                    <a:uFillTx/>
                    <a:latin typeface="Times New Roman"/>
                    <a:ea typeface="Calibri"/>
                  </a:rPr>
                  <a:t>Relacionado ao objetivo 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Oficinas ocorreram de forma participativa: contemplaram a posição e discussão dos diferentes entes envolvidos.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Houve alto grau de apropriação do Plano Nacional em relação ao anteriormente existente. 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Houve reforço da Região Hidrográfica como um território da GIRH, parcialmente apropriada pelos participantes das Oficinas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Relacionado ao objetivo 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De maneira geral, as participações apontaram prioridades regionais.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Relacionado ao objetivo i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Ações repetidas nos Subprogramas sugerem revisão da estrutura lógica do Plano.</a:t>
                </a: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4920" y="1676520"/>
                <a:ext cx="4768560" cy="29239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5075280" y="1676520"/>
              <a:ext cx="4754520" cy="2923920"/>
              <a:chOff x="5075280" y="1676520"/>
              <a:chExt cx="4754520" cy="2923920"/>
            </a:xfrm>
          </p:grpSpPr>
          <p:sp>
            <p:nvSpPr>
              <p:cNvPr id="328" name=""/>
              <p:cNvSpPr/>
              <p:nvPr/>
            </p:nvSpPr>
            <p:spPr>
              <a:xfrm>
                <a:off x="5183280" y="1676520"/>
                <a:ext cx="4538520" cy="29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Pontos Fraco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Relacionado ao objetivo 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Entendimento ainda frágil da escala/abrangência do PNRH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Relacionado ao objetivo 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Falta de entendimento dos participantes para diferenciar Ação de Diretriz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Falta de entendimento das relações de causalidade entre as ações e do tempo necessário para a realização de cada Ação 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Relacionado ao objetivo i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As propostas para a revisão da estrutura do PNRH, em sua maioria, são indiretas pois este não foi considerado item prioritário da metodologia das Oficinas Regionais e o tempo para esta atividade seria insuficiente.</a:t>
                </a: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075280" y="1676520"/>
                <a:ext cx="4754520" cy="29239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04920" y="4600440"/>
              <a:ext cx="4768560" cy="2791080"/>
              <a:chOff x="304920" y="4600440"/>
              <a:chExt cx="4768560" cy="2791080"/>
            </a:xfrm>
          </p:grpSpPr>
          <p:sp>
            <p:nvSpPr>
              <p:cNvPr id="331" name=""/>
              <p:cNvSpPr/>
              <p:nvPr/>
            </p:nvSpPr>
            <p:spPr>
              <a:xfrm>
                <a:off x="412920" y="4600440"/>
                <a:ext cx="455292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Desafios/Oportunidad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Realizar uma série de atividades de filtragem e complementação para sistematizar os resultados das Oficinas Regionais: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Separar Ação de Diretriz nos quadros resultantes das Oficinas Regionais, relacionando as diretrizes com as ações às quais estejam vinculadas. 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Organizar relações de causalidade entre as ações e agrupar diferentes Ações propostas nas Oficinas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Definir os responsáveis e parceiros para a execução de cada uma das ações propostas.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Organizar e detalhar as ações priorizadas nas Oficinas Regionais em Resumos Executivos, dando ênfase na elaboração das consideradas mais relevantes pelos participantes das Oficinas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04920" y="4600440"/>
                <a:ext cx="4768560" cy="27910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5075280" y="4600440"/>
              <a:ext cx="4754520" cy="2791080"/>
              <a:chOff x="5075280" y="4600440"/>
              <a:chExt cx="4754520" cy="2791080"/>
            </a:xfrm>
          </p:grpSpPr>
          <p:sp>
            <p:nvSpPr>
              <p:cNvPr id="334" name=""/>
              <p:cNvSpPr/>
              <p:nvPr/>
            </p:nvSpPr>
            <p:spPr>
              <a:xfrm>
                <a:off x="5183280" y="4600440"/>
                <a:ext cx="453852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Risco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Participação pouco representativa na Oficina Naciona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Não obtenção de apoio institucional/parceria da CT – PNRH para o encaminhamento dos produtos da revisão ao CNRH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075280" y="4600440"/>
                <a:ext cx="4754520" cy="27910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468360" y="2208240"/>
            <a:ext cx="9215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CTO NACION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ara a definição de diretrizes e políticas públicas voltadas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RA A MELHORIA DA OFERTA DA ÁGUA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m quantidade e qualidade, gerenciando as demandas e considerando ser a água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ELEMENTO ESTRUTURANTE PARA A IMPLEMENTAÇÃO DAS POLÍTICAS SETORIAIS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ob a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ÓTICA DO DESENVOLVIMENTO SUSTENTÁVEL E DA INCLUSÃO SOC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68360" y="2208240"/>
            <a:ext cx="9215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CTO NACION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ara a definição de diretrizes e políticas públicas voltadas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RA A MELHORIA DA OFERTA DA ÁGUA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m quantidade e qualidade, gerenciando as demandas e considerando ser a água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ELEMENTO ESTRUTURANTE PARA A IMPLEMENTAÇÃO DAS POLÍTICAS SETORIAIS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ob a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ÓTICA DO DESENVOLVIMENTO SUSTENTÁVEL E DA INCLUSÃO SOC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68360" y="2208240"/>
            <a:ext cx="9215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CTO NACION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ara a definição de diretrizes e políticas públicas voltadas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RA A MELHORIA DA OFERTA DA ÁGUA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m quantidade e qualidade, gerenciando as demandas e considerando ser a água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ELEMENTO ESTRUTURANTE PARA A IMPLEMENTAÇÃO DAS POLÍTICAS SETORIAIS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ob a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ÓTICA DO DESENVOLVIMENTO SUSTENTÁVEL E DA INCLUSÃO SOC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254160" y="493560"/>
            <a:ext cx="9428040" cy="6753240"/>
            <a:chOff x="254160" y="493560"/>
            <a:chExt cx="9428040" cy="6753240"/>
          </a:xfrm>
        </p:grpSpPr>
        <p:sp>
          <p:nvSpPr>
            <p:cNvPr id="343" name=""/>
            <p:cNvSpPr/>
            <p:nvPr/>
          </p:nvSpPr>
          <p:spPr>
            <a:xfrm>
              <a:off x="254160" y="493560"/>
              <a:ext cx="26035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EVEN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59120" y="493560"/>
              <a:ext cx="32227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FO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78600" y="493560"/>
              <a:ext cx="35989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ATORES ENVOLVID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4160" y="833400"/>
              <a:ext cx="2603520" cy="21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Oficinas Técnicas Regiona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59120" y="833400"/>
              <a:ext cx="3222720" cy="21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Definição de ações prioritárias para o período 2011-2014 que sejam estruturantes para a gestão integrada dos recursos hídricos no âmbito das doze regiões hidrográficas brasileira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78600" y="833400"/>
              <a:ext cx="3598920" cy="21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- SRHU e ANA; representantes do CNRH (governo federal, usuários e sociedade civil); órgãos gestores de recursos hídricos dos Estados da região; representantes de cada um dos Conselhos Estaduais de Recursos Hídricos da região (governo, usuários, sociedade civil); representantes de CBHs (governo, usuários e sociedade civil) e UGRHs; Agências de Água e mobilizadores regionai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4160" y="2936880"/>
              <a:ext cx="26035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Seminários Diálogo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com a Águ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859120" y="2936880"/>
              <a:ext cx="32227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Apresentação e debates sobre temas que devem ser aprofundados no PNRH 2025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78600" y="2936880"/>
              <a:ext cx="35989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- SRHU e ANA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- atores envolvidos com as temátic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4160" y="3741840"/>
              <a:ext cx="26035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Oficina Nacional de Consolidação do Processo Participativ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59120" y="3741840"/>
              <a:ext cx="32227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Consolidação das proposições ao PNRH 2025 na forma de priorização de ações e estratégias do Plano para o período 2011-2015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78600" y="3741840"/>
              <a:ext cx="35989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06200">
                <a:lnSpc>
                  <a:spcPct val="100000"/>
                </a:lnSpc>
                <a:buClr>
                  <a:srgbClr val="404040"/>
                </a:buClr>
                <a:buFont typeface="Verdana"/>
                <a:buChar char="-"/>
                <a:tabLst>
                  <a:tab algn="l" pos="106200"/>
                  <a:tab algn="l" pos="554040"/>
                  <a:tab algn="l" pos="1003320"/>
                  <a:tab algn="l" pos="1452600"/>
                  <a:tab algn="l" pos="1901880"/>
                  <a:tab algn="l" pos="2351160"/>
                  <a:tab algn="l" pos="2800440"/>
                  <a:tab algn="l" pos="3249720"/>
                  <a:tab algn="l" pos="3699000"/>
                  <a:tab algn="l" pos="4148280"/>
                  <a:tab algn="l" pos="4597560"/>
                  <a:tab algn="l" pos="5046840"/>
                  <a:tab algn="l" pos="5495760"/>
                  <a:tab algn="l" pos="5945040"/>
                  <a:tab algn="l" pos="6394320"/>
                  <a:tab algn="l" pos="6843600"/>
                  <a:tab algn="l" pos="7292880"/>
                  <a:tab algn="l" pos="7742160"/>
                  <a:tab algn="l" pos="8191440"/>
                  <a:tab algn="l" pos="8640720"/>
                  <a:tab algn="l" pos="9090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SRHU e ANA, representantes do CNRH, dos Conselhos Estaduais de Recursos Hídricos, dos CBHs; Órgãos gestores de recursos hídricos dos Estados; Agências de água; Comissões Organizadoras Regionais - CORs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06200">
                <a:lnSpc>
                  <a:spcPct val="100000"/>
                </a:lnSpc>
                <a:tabLst>
                  <a:tab algn="l" pos="0"/>
                  <a:tab algn="l" pos="106200"/>
                  <a:tab algn="l" pos="554040"/>
                  <a:tab algn="l" pos="1003320"/>
                  <a:tab algn="l" pos="1452600"/>
                  <a:tab algn="l" pos="1901880"/>
                  <a:tab algn="l" pos="2351160"/>
                  <a:tab algn="l" pos="2800440"/>
                  <a:tab algn="l" pos="3249720"/>
                  <a:tab algn="l" pos="3699000"/>
                  <a:tab algn="l" pos="4148280"/>
                  <a:tab algn="l" pos="4597560"/>
                  <a:tab algn="l" pos="5046840"/>
                  <a:tab algn="l" pos="5495760"/>
                  <a:tab algn="l" pos="5945040"/>
                  <a:tab algn="l" pos="6394320"/>
                  <a:tab algn="l" pos="6843600"/>
                  <a:tab algn="l" pos="7292880"/>
                  <a:tab algn="l" pos="7742160"/>
                  <a:tab algn="l" pos="8191440"/>
                  <a:tab algn="l" pos="8640720"/>
                  <a:tab algn="l" pos="9090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- outros a defini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4160" y="5294160"/>
              <a:ext cx="260352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Seminários Regiona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859120" y="5294160"/>
              <a:ext cx="322272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Divulgação do </a:t>
              </a:r>
              <a:r>
                <a:rPr b="0" i="1" lang="en-GB" sz="1200" spc="-1" strike="noStrike">
                  <a:solidFill>
                    <a:srgbClr val="404040"/>
                  </a:solidFill>
                  <a:latin typeface="Verdana"/>
                </a:rPr>
                <a:t>PNRH 2025</a:t>
              </a: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 nas doze Regiões Hidrográficas brasileiras com retorno informativo visando a pactuação da implementaçã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078600" y="5294160"/>
              <a:ext cx="359892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Aberto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4160" y="6200640"/>
              <a:ext cx="26035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Seminário Nacional PNRH 2025: Resultados e Melhores Prática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859120" y="6200640"/>
              <a:ext cx="32227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Divulgação dos resultados da revisão do </a:t>
              </a:r>
              <a:r>
                <a:rPr b="0" i="1" lang="en-GB" sz="1200" spc="-1" strike="noStrike">
                  <a:solidFill>
                    <a:srgbClr val="404040"/>
                  </a:solidFill>
                  <a:latin typeface="Verdana"/>
                </a:rPr>
                <a:t>PNRH </a:t>
              </a: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e de experiências bem sucedidas relacionadas às ações prioritárias do Plano para o período 2011-2014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78600" y="6200640"/>
              <a:ext cx="35989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Aber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59120" y="493560"/>
              <a:ext cx="1440" cy="675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078600" y="493560"/>
              <a:ext cx="1440" cy="675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4160" y="833400"/>
              <a:ext cx="942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54160" y="2936880"/>
              <a:ext cx="9426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4160" y="3741840"/>
              <a:ext cx="9426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4160" y="5294160"/>
              <a:ext cx="942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54160" y="6200640"/>
              <a:ext cx="942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54160" y="493560"/>
              <a:ext cx="1440" cy="675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680400" y="493560"/>
              <a:ext cx="1800" cy="675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4160" y="493560"/>
              <a:ext cx="942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54160" y="7245360"/>
              <a:ext cx="9426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536840" y="19080"/>
            <a:ext cx="7007040" cy="477720"/>
            <a:chOff x="1536840" y="19080"/>
            <a:chExt cx="7007040" cy="477720"/>
          </a:xfrm>
        </p:grpSpPr>
        <p:pic>
          <p:nvPicPr>
            <p:cNvPr id="373" name="" descr=""/>
            <p:cNvPicPr/>
            <p:nvPr/>
          </p:nvPicPr>
          <p:blipFill>
            <a:blip r:embed="rId2"/>
            <a:stretch/>
          </p:blipFill>
          <p:spPr>
            <a:xfrm>
              <a:off x="1536840" y="19080"/>
              <a:ext cx="7007040" cy="4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1536840" y="19080"/>
              <a:ext cx="7007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890640" y="1987560"/>
            <a:ext cx="9104400" cy="4654440"/>
            <a:chOff x="890640" y="1987560"/>
            <a:chExt cx="9104400" cy="4654440"/>
          </a:xfrm>
        </p:grpSpPr>
        <p:sp>
          <p:nvSpPr>
            <p:cNvPr id="376" name=""/>
            <p:cNvSpPr/>
            <p:nvPr/>
          </p:nvSpPr>
          <p:spPr>
            <a:xfrm>
              <a:off x="890640" y="1987560"/>
              <a:ext cx="9104400" cy="465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360360" y="3371760"/>
            <a:ext cx="89996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50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 u="sng">
                <a:solidFill>
                  <a:srgbClr val="00ffff"/>
                </a:solidFill>
                <a:uFillTx/>
                <a:latin typeface="Calibri"/>
                <a:ea typeface="Arial"/>
              </a:rPr>
              <a:t>OFICINA NACIONAL DE CONSOLIDAÇÃO DO PROCESSO PARTICIPATIVO DE REVISÃO DO PNR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60360" y="3371760"/>
            <a:ext cx="89996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50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 u="sng">
                <a:solidFill>
                  <a:srgbClr val="00ffff"/>
                </a:solidFill>
                <a:uFillTx/>
                <a:latin typeface="Calibri"/>
                <a:ea typeface="Arial"/>
              </a:rPr>
              <a:t>OFICINA NACIONAL DE CONSOLIDAÇÃO DO PROCESSO PARTICIPATIVO DE REVISÃO DO PNR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68360" y="2208240"/>
            <a:ext cx="9215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CTO NACION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ara a definição de diretrizes e políticas públicas voltadas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RA A MELHORIA DA OFERTA DA ÁGUA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m quantidade e qualidade, gerenciando as demandas e considerando ser a água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ELEMENTO ESTRUTURANTE PARA A IMPLEMENTAÇÃO DAS POLÍTICAS SETORIAIS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ob a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ÓTICA DO DESENVOLVIMENTO SUSTENTÁVEL E DA INCLUSÃO SOC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Etapas do Processo Participativo da Revis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459160"/>
            <a:ext cx="100807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9372600" cy="33465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6477120"/>
            <a:ext cx="100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NewRomanPSMT"/>
              </a:rPr>
              <a:t>Figura –  Fluxograma das etapas do processo participativo de revisão do PNR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68360" y="2208240"/>
            <a:ext cx="9215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CTO NACION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ara a definição de diretrizes e políticas públicas voltadas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RA A MELHORIA DA OFERTA DA ÁGUA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m quantidade e qualidade, gerenciando as demandas e considerando ser a água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ELEMENTO ESTRUTURANTE PARA A IMPLEMENTAÇÃO DAS POLÍTICAS SETORIAIS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ob a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ÓTICA DO DESENVOLVIMENTO SUSTENTÁVEL E DA INCLUSÃO SOC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468360" y="2208240"/>
            <a:ext cx="9215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CTO NACION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ara a definição de diretrizes e políticas públicas voltadas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RA A MELHORIA DA OFERTA DA ÁGUA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m quantidade e qualidade, gerenciando as demandas e considerando ser a água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ELEMENTO ESTRUTURANTE PARA A IMPLEMENTAÇÃO DAS POLÍTICAS SETORIAIS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ob a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ÓTICA DO DESENVOLVIMENTO SUSTENTÁVEL E DA INCLUSÃO SOC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68360" y="2208240"/>
            <a:ext cx="9215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CTO NACION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ara a definição de diretrizes e políticas públicas voltadas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RA A MELHORIA DA OFERTA DA ÁGUA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m quantidade e qualidade, gerenciando as demandas e considerando ser a água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ELEMENTO ESTRUTURANTE PARA A IMPLEMENTAÇÃO DAS POLÍTICAS SETORIAIS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ob a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ÓTICA DO DESENVOLVIMENTO SUSTENTÁVEL E DA INCLUSÃO SOC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603360" y="1828800"/>
            <a:ext cx="8580240" cy="1947960"/>
            <a:chOff x="603360" y="1828800"/>
            <a:chExt cx="8580240" cy="1947960"/>
          </a:xfrm>
        </p:grpSpPr>
        <p:pic>
          <p:nvPicPr>
            <p:cNvPr id="388" name="" descr=""/>
            <p:cNvPicPr/>
            <p:nvPr/>
          </p:nvPicPr>
          <p:blipFill>
            <a:blip r:embed="rId2"/>
            <a:stretch/>
          </p:blipFill>
          <p:spPr>
            <a:xfrm>
              <a:off x="603360" y="1828800"/>
              <a:ext cx="8580240" cy="19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603360" y="1828800"/>
              <a:ext cx="8580240" cy="19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584280" y="2981160"/>
            <a:ext cx="856908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articipe desse pacto pelas águas do Bras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254160" y="493560"/>
            <a:ext cx="9428040" cy="6753240"/>
            <a:chOff x="254160" y="493560"/>
            <a:chExt cx="9428040" cy="6753240"/>
          </a:xfrm>
        </p:grpSpPr>
        <p:sp>
          <p:nvSpPr>
            <p:cNvPr id="197" name=""/>
            <p:cNvSpPr/>
            <p:nvPr/>
          </p:nvSpPr>
          <p:spPr>
            <a:xfrm>
              <a:off x="254160" y="493560"/>
              <a:ext cx="26035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EVEN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59120" y="493560"/>
              <a:ext cx="32227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FO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78600" y="493560"/>
              <a:ext cx="35989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ATORES ENVOLVID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4160" y="833400"/>
              <a:ext cx="2603520" cy="21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Oficinas Técnicas Regiona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59120" y="833400"/>
              <a:ext cx="3222720" cy="21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Definição de ações prioritárias para o período 2011-2014 que sejam estruturantes para a gestão integrada dos recursos hídricos no âmbito das doze regiões hidrográficas brasileira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78600" y="833400"/>
              <a:ext cx="3598920" cy="21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- SRHU e ANA; representantes do CNRH (governo federal, usuários e sociedade civil); órgãos gestores de recursos hídricos dos Estados da região; representantes de cada um dos Conselhos Estaduais de Recursos Hídricos da região (governo, usuários, sociedade civil); representantes de CBHs (governo, usuários e sociedade civil) e UGRHs; Agências de Água e mobilizadores regionai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4160" y="2936880"/>
              <a:ext cx="26035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Seminários Diálogo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com a Águ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59120" y="2936880"/>
              <a:ext cx="32227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Apresentação e debates sobre temas que devem ser aprofundados no PNRH 2025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78600" y="2936880"/>
              <a:ext cx="35989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- SRHU e ANA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- atores envolvidos com as temátic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4160" y="3741840"/>
              <a:ext cx="26035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Oficina Nacional de Consolidação do Processo Participativ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59120" y="3741840"/>
              <a:ext cx="32227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Consolidação das proposições ao PNRH 2025 na forma de priorização de ações e estratégias do Plano para o período 2011-2014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78600" y="3741840"/>
              <a:ext cx="35989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06200">
                <a:lnSpc>
                  <a:spcPct val="100000"/>
                </a:lnSpc>
                <a:buClr>
                  <a:srgbClr val="404040"/>
                </a:buClr>
                <a:buFont typeface="Verdana"/>
                <a:buChar char="-"/>
                <a:tabLst>
                  <a:tab algn="l" pos="106200"/>
                  <a:tab algn="l" pos="554040"/>
                  <a:tab algn="l" pos="1003320"/>
                  <a:tab algn="l" pos="1452600"/>
                  <a:tab algn="l" pos="1901880"/>
                  <a:tab algn="l" pos="2351160"/>
                  <a:tab algn="l" pos="2800440"/>
                  <a:tab algn="l" pos="3249720"/>
                  <a:tab algn="l" pos="3699000"/>
                  <a:tab algn="l" pos="4148280"/>
                  <a:tab algn="l" pos="4597560"/>
                  <a:tab algn="l" pos="5046840"/>
                  <a:tab algn="l" pos="5495760"/>
                  <a:tab algn="l" pos="5945040"/>
                  <a:tab algn="l" pos="6394320"/>
                  <a:tab algn="l" pos="6843600"/>
                  <a:tab algn="l" pos="7292880"/>
                  <a:tab algn="l" pos="7742160"/>
                  <a:tab algn="l" pos="8191440"/>
                  <a:tab algn="l" pos="8640720"/>
                  <a:tab algn="l" pos="9090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SRHU e ANA, representantes do CNRH, dos Conselhos Estaduais de Recursos Hídricos, dos CBHs; Órgãos gestores de recursos hídricos dos Estados; Agências de água; Comissões Organizadoras Regionais - CORs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06200">
                <a:lnSpc>
                  <a:spcPct val="100000"/>
                </a:lnSpc>
                <a:tabLst>
                  <a:tab algn="l" pos="0"/>
                  <a:tab algn="l" pos="106200"/>
                  <a:tab algn="l" pos="554040"/>
                  <a:tab algn="l" pos="1003320"/>
                  <a:tab algn="l" pos="1452600"/>
                  <a:tab algn="l" pos="1901880"/>
                  <a:tab algn="l" pos="2351160"/>
                  <a:tab algn="l" pos="2800440"/>
                  <a:tab algn="l" pos="3249720"/>
                  <a:tab algn="l" pos="3699000"/>
                  <a:tab algn="l" pos="4148280"/>
                  <a:tab algn="l" pos="4597560"/>
                  <a:tab algn="l" pos="5046840"/>
                  <a:tab algn="l" pos="5495760"/>
                  <a:tab algn="l" pos="5945040"/>
                  <a:tab algn="l" pos="6394320"/>
                  <a:tab algn="l" pos="6843600"/>
                  <a:tab algn="l" pos="7292880"/>
                  <a:tab algn="l" pos="7742160"/>
                  <a:tab algn="l" pos="8191440"/>
                  <a:tab algn="l" pos="8640720"/>
                  <a:tab algn="l" pos="9090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- outros a defini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4160" y="5294160"/>
              <a:ext cx="260352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Seminários Regiona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59120" y="5294160"/>
              <a:ext cx="322272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Divulgação do </a:t>
              </a:r>
              <a:r>
                <a:rPr b="0" i="1" lang="en-GB" sz="1200" spc="-1" strike="noStrike">
                  <a:solidFill>
                    <a:srgbClr val="404040"/>
                  </a:solidFill>
                  <a:latin typeface="Verdana"/>
                </a:rPr>
                <a:t>PNRH 2025</a:t>
              </a: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 nas doze Regiões Hidrográficas brasileiras com retorno informativo visando a pactuação da implementaçã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78600" y="5294160"/>
              <a:ext cx="359892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Aberto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4160" y="6200640"/>
              <a:ext cx="26035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Seminário Nacional PNRH 2025: Resultados e Melhores Prática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59120" y="6200640"/>
              <a:ext cx="32227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Divulgação dos resultados da revisão do </a:t>
              </a:r>
              <a:r>
                <a:rPr b="0" i="1" lang="en-GB" sz="1200" spc="-1" strike="noStrike">
                  <a:solidFill>
                    <a:srgbClr val="404040"/>
                  </a:solidFill>
                  <a:latin typeface="Verdana"/>
                </a:rPr>
                <a:t>PNRH </a:t>
              </a: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e de experiências bem sucedidas relacionadas às ações prioritárias do Plano para o período 2011-2014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78600" y="6200640"/>
              <a:ext cx="35989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Aber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59120" y="493560"/>
              <a:ext cx="1440" cy="675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78600" y="493560"/>
              <a:ext cx="1440" cy="675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4160" y="833400"/>
              <a:ext cx="942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4160" y="2936880"/>
              <a:ext cx="9426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4160" y="3741840"/>
              <a:ext cx="9426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4160" y="5294160"/>
              <a:ext cx="942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4160" y="6200640"/>
              <a:ext cx="942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4160" y="493560"/>
              <a:ext cx="1440" cy="675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680400" y="493560"/>
              <a:ext cx="1800" cy="675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4160" y="493560"/>
              <a:ext cx="942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4160" y="7245360"/>
              <a:ext cx="9426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536840" y="19080"/>
            <a:ext cx="7007040" cy="477720"/>
            <a:chOff x="1536840" y="19080"/>
            <a:chExt cx="7007040" cy="477720"/>
          </a:xfrm>
        </p:grpSpPr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1536840" y="19080"/>
              <a:ext cx="7007040" cy="4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536840" y="19080"/>
              <a:ext cx="7007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152280" y="1504800"/>
            <a:ext cx="9585360" cy="4343400"/>
            <a:chOff x="152280" y="1504800"/>
            <a:chExt cx="9585360" cy="4343400"/>
          </a:xfrm>
        </p:grpSpPr>
        <p:sp>
          <p:nvSpPr>
            <p:cNvPr id="230" name=""/>
            <p:cNvSpPr/>
            <p:nvPr/>
          </p:nvSpPr>
          <p:spPr>
            <a:xfrm>
              <a:off x="152280" y="1504800"/>
              <a:ext cx="958536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60360" y="3371760"/>
            <a:ext cx="89996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50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 u="sng">
                <a:solidFill>
                  <a:srgbClr val="00ffff"/>
                </a:solidFill>
                <a:uFillTx/>
                <a:latin typeface="Calibri"/>
                <a:ea typeface="Arial"/>
              </a:rPr>
              <a:t>Breve análise das Oficinas Regionais de Revisão do PNR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68360" y="1812960"/>
            <a:ext cx="921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Apontadas aproximadament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1.400 proposta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, não considerando sua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adequação técnica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 a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hierarquização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 realiz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5440" y="779400"/>
            <a:ext cx="93139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ficinas Regionais de Revisão do PNR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490760" y="3060720"/>
            <a:ext cx="6970680" cy="434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68360" y="1800360"/>
            <a:ext cx="9215280" cy="40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99ff"/>
                </a:solidFill>
                <a:latin typeface="Verdana"/>
                <a:ea typeface="Arial"/>
              </a:rPr>
              <a:t>G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  <a:ea typeface="Arial"/>
              </a:rPr>
              <a:t>Promover a priorização regional para a implementação do PNRH 202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99ff"/>
                </a:solidFill>
                <a:latin typeface="Verdana"/>
                <a:ea typeface="Arial"/>
              </a:rPr>
              <a:t>Específ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. fortalecer a apropriação do Plano Nacional de Recursos Hídricos pelo SINGREH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ii. apontar ações prioritárias para a implementação do PNRH 2011-2014 no âmbito da Região Hidrográfic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ii. obter contribuições para a revisão da estrutura do Plano Nacion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5440" y="923760"/>
            <a:ext cx="9313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Obje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RIANA</dc:creator>
  <dc:description/>
  <dc:language>en-US</dc:language>
  <cp:lastModifiedBy>Requer Privacidade</cp:lastModifiedBy>
  <cp:lastPrinted>2010-11-10T15:54:02Z</cp:lastPrinted>
  <dcterms:modified xsi:type="dcterms:W3CDTF">2010-11-10T05:41:59Z</dcterms:modified>
  <cp:revision>15</cp:revision>
  <dc:subject/>
  <dc:title>Slide 1</dc:title>
</cp:coreProperties>
</file>